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2E8-D852-4B75-895D-C71FA6CB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6EC-DE4A-403C-B14D-1A47A45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EC3-DF07-4359-BDBB-C1BA636A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97A-A5B9-4F9B-9BE5-14D74AE7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69B-F95B-4B37-9D6A-CA27770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CA7-4878-44B2-B646-13CCC262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5D6-FCF8-43BC-B535-9384B693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7A4-D2E2-4166-9B57-A1EECD4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255-B294-4A1D-9608-013F310C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CB5-56DD-4F0B-BD10-A09CC078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F76-F7B9-489B-8C7A-0B52593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CAB-6040-4915-84DA-B4E288A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0CCA-3306-4E51-86C4-A3CE1CFD37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7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 rot="346800">
            <a:off x="3328560" y="1584000"/>
            <a:ext cx="172584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Unit 5</a:t>
            </a:r>
            <a:endParaRPr b="1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071720" y="2857680"/>
            <a:ext cx="71434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Do you have a  soccer  ball?</a:t>
            </a:r>
            <a:endParaRPr b="1" i="1" lang="en-US" sz="60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5440" y="3355920"/>
            <a:ext cx="84945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没有。他有两个乒乓球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, he _______. He ____ two ping-pong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 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他们有一个篮球吗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 they _____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aske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3975120"/>
            <a:ext cx="295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        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0" y="3932280"/>
            <a:ext cx="911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43280" y="5127480"/>
            <a:ext cx="2665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           hav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1419480" y="2200320"/>
            <a:ext cx="492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6810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他有一个足球吗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_ he _____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810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__ 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119480" y="2205000"/>
            <a:ext cx="3024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es         hav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857880" y="4533840"/>
            <a:ext cx="90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395280" y="431640"/>
            <a:ext cx="785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，她有。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_,  she 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没有。她有一个棒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, she _______. She ____ a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3132000" y="449280"/>
            <a:ext cx="338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es           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4932360" y="1600200"/>
            <a:ext cx="349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s</a:t>
            </a:r>
            <a:r>
              <a:rPr b="1" lang="en-US" sz="3200" spc="-1" strike="noStrike">
                <a:solidFill>
                  <a:srgbClr val="6201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eball  </a:t>
            </a:r>
            <a:r>
              <a:rPr b="1" lang="en-US" sz="3200" spc="-1" strike="noStrike">
                <a:solidFill>
                  <a:srgbClr val="6201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971640" y="1600200"/>
            <a:ext cx="33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         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00040" y="2857680"/>
            <a:ext cx="831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写出下列的缩写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do not = ______     2. does not =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e are = ______      4. let us =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730600" y="3506760"/>
            <a:ext cx="151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don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585120" y="3506760"/>
            <a:ext cx="151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doesn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695680" y="4125960"/>
            <a:ext cx="151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296040" y="4100400"/>
            <a:ext cx="151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81080" y="476280"/>
            <a:ext cx="87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的，有。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Yes, __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没有。他们有一个排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, they _____. They _____ a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700440" y="476280"/>
            <a:ext cx="18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y     do</a:t>
            </a:r>
            <a:r>
              <a:rPr b="1" lang="en-US" sz="3200" spc="-1" strike="noStrike">
                <a:solidFill>
                  <a:srgbClr val="6201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973080" y="1743120"/>
            <a:ext cx="295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            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4933800" y="1743120"/>
            <a:ext cx="360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ve</a:t>
            </a:r>
            <a:r>
              <a:rPr b="1" lang="en-US" sz="3200" spc="-1" strike="noStrike">
                <a:solidFill>
                  <a:srgbClr val="6201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olleyball </a:t>
            </a:r>
            <a:r>
              <a:rPr b="1" lang="en-US" sz="3200" spc="-1" strike="noStrike">
                <a:solidFill>
                  <a:srgbClr val="6201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71680" y="792000"/>
            <a:ext cx="828648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英语中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人称和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英语句子中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谓语动词的形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与句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主语的人称和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对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若主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第三人称单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→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形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若主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第三人称单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→ has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4"/>
          <p:cNvGrpSpPr/>
          <p:nvPr/>
        </p:nvGrpSpPr>
        <p:grpSpPr>
          <a:xfrm>
            <a:off x="2428920" y="-142920"/>
            <a:ext cx="2928960" cy="914400"/>
            <a:chOff x="2428920" y="-142920"/>
            <a:chExt cx="2928960" cy="914400"/>
          </a:xfrm>
        </p:grpSpPr>
        <p:pic>
          <p:nvPicPr>
            <p:cNvPr id="131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2428920" y="-142920"/>
              <a:ext cx="2843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/>
            <p:cNvSpPr/>
            <p:nvPr/>
          </p:nvSpPr>
          <p:spPr>
            <a:xfrm>
              <a:off x="2638440" y="41040"/>
              <a:ext cx="271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Gramma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7"/>
          <p:cNvSpPr/>
          <p:nvPr/>
        </p:nvSpPr>
        <p:spPr>
          <a:xfrm>
            <a:off x="5006520" y="3857760"/>
            <a:ext cx="28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ke →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形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4939560" y="4987800"/>
            <a:ext cx="22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 → l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357120"/>
            <a:ext cx="80992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have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there be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句型的区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3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“某人拥有……”，主语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是人。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hav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y boo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有很多本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3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ere b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在某地存在某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/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某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re be 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某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某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There i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book on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书桌上有一本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99680" y="2571480"/>
            <a:ext cx="368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I    he    they 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we   she  it     E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"/>
          <p:cNvSpPr/>
          <p:nvPr/>
        </p:nvSpPr>
        <p:spPr>
          <a:xfrm>
            <a:off x="500040" y="285840"/>
            <a:ext cx="714240" cy="69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14200" y="857160"/>
            <a:ext cx="900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 each word in the correct place in the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29080" y="2143080"/>
          <a:ext cx="4038480" cy="29019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d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do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26"/>
          <p:cNvSpPr/>
          <p:nvPr/>
        </p:nvSpPr>
        <p:spPr>
          <a:xfrm>
            <a:off x="4724280" y="2963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594480" y="29638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he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5299200" y="2963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4578480" y="38210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5514840" y="38275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7386480" y="29638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6667560" y="38988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7315200" y="38988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E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7"/>
          <p:cNvSpPr/>
          <p:nvPr/>
        </p:nvSpPr>
        <p:spPr>
          <a:xfrm>
            <a:off x="108000" y="549360"/>
            <a:ext cx="903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Fill in the blanks with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or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6"/>
          <p:cNvGrpSpPr/>
          <p:nvPr/>
        </p:nvGrpSpPr>
        <p:grpSpPr>
          <a:xfrm>
            <a:off x="647640" y="1916280"/>
            <a:ext cx="7710480" cy="3565440"/>
            <a:chOff x="647640" y="1916280"/>
            <a:chExt cx="7710480" cy="3565440"/>
          </a:xfrm>
        </p:grpSpPr>
        <p:grpSp>
          <p:nvGrpSpPr>
            <p:cNvPr id="150" name="Group 24"/>
            <p:cNvGrpSpPr/>
            <p:nvPr/>
          </p:nvGrpSpPr>
          <p:grpSpPr>
            <a:xfrm>
              <a:off x="1871640" y="2351160"/>
              <a:ext cx="6486480" cy="3130560"/>
              <a:chOff x="1871640" y="2351160"/>
              <a:chExt cx="6486480" cy="3130560"/>
            </a:xfrm>
          </p:grpSpPr>
          <p:sp>
            <p:nvSpPr>
              <p:cNvPr id="151" name="Rectangle 12"/>
              <p:cNvSpPr/>
              <p:nvPr/>
            </p:nvSpPr>
            <p:spPr>
              <a:xfrm>
                <a:off x="1871640" y="2351160"/>
                <a:ext cx="6486480" cy="3130560"/>
              </a:xfrm>
              <a:prstGeom prst="rect">
                <a:avLst/>
              </a:prstGeom>
              <a:solidFill>
                <a:srgbClr val="ffff00">
                  <a:alpha val="83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698400" indent="-5205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:           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ou have a baseball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98400" indent="-5205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: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es, I                  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98400" indent="-5205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: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</a:rPr>
                  <a:t>Great!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I have a bat. Let’s play!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3714840" y="4143600"/>
                <a:ext cx="124308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7"/>
              <p:cNvSpPr/>
              <p:nvPr/>
            </p:nvSpPr>
            <p:spPr>
              <a:xfrm>
                <a:off x="2600280" y="3538800"/>
                <a:ext cx="124308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25"/>
            <p:cNvSpPr/>
            <p:nvPr/>
          </p:nvSpPr>
          <p:spPr>
            <a:xfrm>
              <a:off x="647640" y="1916280"/>
              <a:ext cx="2700360" cy="72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sation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27"/>
          <p:cNvSpPr/>
          <p:nvPr/>
        </p:nvSpPr>
        <p:spPr>
          <a:xfrm>
            <a:off x="2933280" y="292896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3932640" y="357192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"/>
          <p:cNvSpPr/>
          <p:nvPr/>
        </p:nvSpPr>
        <p:spPr>
          <a:xfrm>
            <a:off x="428760" y="428760"/>
            <a:ext cx="900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教师1"/>
          <p:cNvPicPr/>
          <p:nvPr/>
        </p:nvPicPr>
        <p:blipFill>
          <a:blip r:embed="rId2"/>
          <a:srcRect l="0" t="0" r="5632" b="6348"/>
          <a:stretch/>
        </p:blipFill>
        <p:spPr>
          <a:xfrm>
            <a:off x="4000680" y="1714680"/>
            <a:ext cx="718920" cy="10792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4"/>
          <p:cNvSpPr/>
          <p:nvPr/>
        </p:nvSpPr>
        <p:spPr>
          <a:xfrm>
            <a:off x="5643720" y="1214280"/>
            <a:ext cx="2714400" cy="1428840"/>
          </a:xfrm>
          <a:prstGeom prst="wedgeRectCallout">
            <a:avLst>
              <a:gd name="adj1" fmla="val -82425"/>
              <a:gd name="adj2" fmla="val 316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人称单复数都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2"/>
          <p:cNvGrpSpPr/>
          <p:nvPr/>
        </p:nvGrpSpPr>
        <p:grpSpPr>
          <a:xfrm>
            <a:off x="358920" y="763560"/>
            <a:ext cx="8213040" cy="5262480"/>
            <a:chOff x="358920" y="763560"/>
            <a:chExt cx="8213040" cy="5262480"/>
          </a:xfrm>
        </p:grpSpPr>
        <p:grpSp>
          <p:nvGrpSpPr>
            <p:cNvPr id="161" name="Group 11"/>
            <p:cNvGrpSpPr/>
            <p:nvPr/>
          </p:nvGrpSpPr>
          <p:grpSpPr>
            <a:xfrm>
              <a:off x="1344240" y="1273320"/>
              <a:ext cx="7227720" cy="4752720"/>
              <a:chOff x="1344240" y="1273320"/>
              <a:chExt cx="7227720" cy="4752720"/>
            </a:xfrm>
          </p:grpSpPr>
          <p:sp>
            <p:nvSpPr>
              <p:cNvPr id="162" name="Rectangle 5"/>
              <p:cNvSpPr/>
              <p:nvPr/>
            </p:nvSpPr>
            <p:spPr>
              <a:xfrm>
                <a:off x="1344240" y="1273320"/>
                <a:ext cx="7227720" cy="4752720"/>
              </a:xfrm>
              <a:prstGeom prst="rect">
                <a:avLst/>
              </a:prstGeom>
              <a:solidFill>
                <a:srgbClr val="f6f621"/>
              </a:soli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698400" indent="-5205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A:          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Jonh have a soccer ball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98400" indent="-5205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B: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No, he                   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98400" indent="-5205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A: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                 he have a ping-pong ba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98400" indent="-5205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B: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Yes, he                 . I think he has a ping-pong ball, too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98400" indent="-5205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A: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Hmm…let’s ask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>
                <a:off x="3344400" y="2889360"/>
                <a:ext cx="159840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166480" y="2205000"/>
                <a:ext cx="159876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9"/>
              <p:cNvSpPr/>
              <p:nvPr/>
            </p:nvSpPr>
            <p:spPr>
              <a:xfrm>
                <a:off x="2166480" y="3537000"/>
                <a:ext cx="159876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0"/>
              <p:cNvSpPr/>
              <p:nvPr/>
            </p:nvSpPr>
            <p:spPr>
              <a:xfrm>
                <a:off x="3344400" y="4221000"/>
                <a:ext cx="1598400" cy="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Oval 8"/>
            <p:cNvSpPr/>
            <p:nvPr/>
          </p:nvSpPr>
          <p:spPr>
            <a:xfrm>
              <a:off x="358920" y="763560"/>
              <a:ext cx="2946240" cy="720720"/>
            </a:xfrm>
            <a:prstGeom prst="ellipse">
              <a:avLst/>
            </a:prstGeom>
            <a:solidFill>
              <a:srgbClr val="f6f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sation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3"/>
          <p:cNvSpPr/>
          <p:nvPr/>
        </p:nvSpPr>
        <p:spPr>
          <a:xfrm>
            <a:off x="2433600" y="16430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435480" y="235728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308320" y="299736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505320" y="364320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3" descr="教师1"/>
          <p:cNvPicPr/>
          <p:nvPr/>
        </p:nvPicPr>
        <p:blipFill>
          <a:blip r:embed="rId2"/>
          <a:srcRect l="0" t="0" r="5632" b="6348"/>
          <a:stretch/>
        </p:blipFill>
        <p:spPr>
          <a:xfrm>
            <a:off x="4143240" y="500040"/>
            <a:ext cx="719280" cy="1079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4"/>
          <p:cNvSpPr/>
          <p:nvPr/>
        </p:nvSpPr>
        <p:spPr>
          <a:xfrm>
            <a:off x="5429160" y="285840"/>
            <a:ext cx="3106800" cy="1263600"/>
          </a:xfrm>
          <a:prstGeom prst="wedgeRectCallout">
            <a:avLst>
              <a:gd name="adj1" fmla="val -68111"/>
              <a:gd name="adj2" fmla="val 38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称单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John, he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3"/>
          <p:cNvGrpSpPr/>
          <p:nvPr/>
        </p:nvGrpSpPr>
        <p:grpSpPr>
          <a:xfrm>
            <a:off x="358920" y="763560"/>
            <a:ext cx="8070840" cy="5262480"/>
            <a:chOff x="358920" y="763560"/>
            <a:chExt cx="8070840" cy="5262480"/>
          </a:xfrm>
        </p:grpSpPr>
        <p:sp>
          <p:nvSpPr>
            <p:cNvPr id="175" name="Rectangle 7"/>
            <p:cNvSpPr/>
            <p:nvPr/>
          </p:nvSpPr>
          <p:spPr>
            <a:xfrm>
              <a:off x="1262160" y="1273320"/>
              <a:ext cx="7167600" cy="4752720"/>
            </a:xfrm>
            <a:prstGeom prst="rect">
              <a:avLst/>
            </a:prstGeom>
            <a:solidFill>
              <a:srgbClr val="f6f621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98400" indent="-52056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:   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our friends have a basketball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98400" indent="-52056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: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es, they               . They have two basketball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98400" indent="-52056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Well, let’s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play basketball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698400" indent="-52056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at sounds goo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3502080" y="3537000"/>
              <a:ext cx="14652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2027160" y="2266920"/>
              <a:ext cx="14652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358920" y="763560"/>
              <a:ext cx="2700360" cy="720720"/>
            </a:xfrm>
            <a:prstGeom prst="ellipse">
              <a:avLst/>
            </a:prstGeom>
            <a:solidFill>
              <a:srgbClr val="f6f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sation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4"/>
          <p:cNvSpPr/>
          <p:nvPr/>
        </p:nvSpPr>
        <p:spPr>
          <a:xfrm>
            <a:off x="2503440" y="171144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3854520" y="29973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教师1"/>
          <p:cNvPicPr/>
          <p:nvPr/>
        </p:nvPicPr>
        <p:blipFill>
          <a:blip r:embed="rId2"/>
          <a:srcRect l="0" t="0" r="0" b="3437"/>
          <a:stretch/>
        </p:blipFill>
        <p:spPr>
          <a:xfrm>
            <a:off x="3143160" y="428760"/>
            <a:ext cx="836640" cy="12222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/>
          <p:cNvSpPr/>
          <p:nvPr/>
        </p:nvSpPr>
        <p:spPr>
          <a:xfrm>
            <a:off x="4357800" y="357120"/>
            <a:ext cx="3929040" cy="1214640"/>
          </a:xfrm>
          <a:prstGeom prst="wedgeRectCallout">
            <a:avLst>
              <a:gd name="adj1" fmla="val -60601"/>
              <a:gd name="adj2" fmla="val -76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人称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your friends, they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28440" y="642600"/>
            <a:ext cx="7715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lay basketball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打篮球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动词，意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玩；参加；打；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20000"/>
              </a:lnSpc>
              <a:buNone/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e.g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always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play basketbal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the   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20000"/>
              </a:lnSpc>
              <a:buNone/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总是在操场上打篮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20000"/>
              </a:lnSpc>
              <a:buNone/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plays basketbal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fter schoo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20000"/>
              </a:lnSpc>
              <a:buNone/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在放学后打篮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20000"/>
              </a:lnSpc>
              <a:buNone/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t’s go and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play basketb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20000"/>
              </a:lnSpc>
              <a:buNone/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去打篮球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24"/>
          <p:cNvGrpSpPr/>
          <p:nvPr/>
        </p:nvGrpSpPr>
        <p:grpSpPr>
          <a:xfrm>
            <a:off x="2928960" y="0"/>
            <a:ext cx="3071880" cy="726840"/>
            <a:chOff x="2928960" y="0"/>
            <a:chExt cx="3071880" cy="726840"/>
          </a:xfrm>
        </p:grpSpPr>
        <p:pic>
          <p:nvPicPr>
            <p:cNvPr id="185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307188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7"/>
            <p:cNvSpPr/>
            <p:nvPr/>
          </p:nvSpPr>
          <p:spPr>
            <a:xfrm>
              <a:off x="2928960" y="145440"/>
              <a:ext cx="293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 </a:t>
              </a:r>
              <a:r>
                <a:rPr b="1" lang="zh-CN" sz="32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Explan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428760" y="3429000"/>
            <a:ext cx="8143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篮球” 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asketb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此处表示运动项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785880" y="4714920"/>
            <a:ext cx="7715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volleyball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baseball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等词的用法也如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500040" y="428760"/>
            <a:ext cx="8143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basketball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既可以表示具体的球，也可以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个运动项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85840" y="1500120"/>
            <a:ext cx="8215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个篮球”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asketb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此指具体的球，有单、复数之分，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basketball, some basketb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/>
          <p:cNvSpPr/>
          <p:nvPr/>
        </p:nvSpPr>
        <p:spPr>
          <a:xfrm>
            <a:off x="655920" y="1571760"/>
            <a:ext cx="33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have  a 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9"/>
          <p:cNvSpPr/>
          <p:nvPr/>
        </p:nvSpPr>
        <p:spPr>
          <a:xfrm>
            <a:off x="797760" y="342900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lay 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tennis ball"/>
          <p:cNvPicPr/>
          <p:nvPr/>
        </p:nvPicPr>
        <p:blipFill>
          <a:blip r:embed="rId2"/>
          <a:stretch/>
        </p:blipFill>
        <p:spPr>
          <a:xfrm>
            <a:off x="4000680" y="3071880"/>
            <a:ext cx="1341360" cy="98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截屏015"/>
          <p:cNvPicPr/>
          <p:nvPr/>
        </p:nvPicPr>
        <p:blipFill>
          <a:blip r:embed="rId3"/>
          <a:stretch/>
        </p:blipFill>
        <p:spPr>
          <a:xfrm rot="3511200">
            <a:off x="6373440" y="1540080"/>
            <a:ext cx="1814400" cy="38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011_8_12_11_40_12_3933"/>
          <p:cNvPicPr/>
          <p:nvPr/>
        </p:nvPicPr>
        <p:blipFill>
          <a:blip r:embed="rId4"/>
          <a:stretch/>
        </p:blipFill>
        <p:spPr>
          <a:xfrm>
            <a:off x="1357200" y="407196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162_G_1255038287339"/>
          <p:cNvPicPr/>
          <p:nvPr/>
        </p:nvPicPr>
        <p:blipFill>
          <a:blip r:embed="rId5"/>
          <a:stretch/>
        </p:blipFill>
        <p:spPr>
          <a:xfrm>
            <a:off x="5214960" y="6429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20090115093006644"/>
          <p:cNvPicPr/>
          <p:nvPr/>
        </p:nvPicPr>
        <p:blipFill>
          <a:blip r:embed="rId6"/>
          <a:stretch/>
        </p:blipFill>
        <p:spPr>
          <a:xfrm>
            <a:off x="785880" y="571680"/>
            <a:ext cx="1157400" cy="1106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4714920" y="16430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2643120" y="20718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ccer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28760" y="18572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429240" y="25002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ball 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357120" y="35719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-pong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785880" y="53578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-pong 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643200" y="41432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nis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pingpang"/>
          <p:cNvPicPr/>
          <p:nvPr/>
        </p:nvPicPr>
        <p:blipFill>
          <a:blip r:embed="rId7"/>
          <a:stretch/>
        </p:blipFill>
        <p:spPr>
          <a:xfrm>
            <a:off x="1357200" y="2643120"/>
            <a:ext cx="785880" cy="9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tennis racket"/>
          <p:cNvPicPr/>
          <p:nvPr/>
        </p:nvPicPr>
        <p:blipFill>
          <a:blip r:embed="rId8"/>
          <a:stretch/>
        </p:blipFill>
        <p:spPr>
          <a:xfrm>
            <a:off x="5929200" y="3714840"/>
            <a:ext cx="1928880" cy="1428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5572080" y="51436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nis r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运动跃动-运动-运动,运动跃动"/>
          <p:cNvPicPr/>
          <p:nvPr/>
        </p:nvPicPr>
        <p:blipFill>
          <a:blip r:embed="rId9"/>
          <a:srcRect l="10707" t="16670" r="7700" b="15364"/>
          <a:stretch/>
        </p:blipFill>
        <p:spPr>
          <a:xfrm>
            <a:off x="2928960" y="571680"/>
            <a:ext cx="1220760" cy="1387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tennis 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和 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tennis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28760" y="99972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词都表示“网球”，但意义并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运动项目名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“网球运动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ennis ba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具体的“球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 you have 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有网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et’s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去打网球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ping-pong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ping-pong ba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soccer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soccer ba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区别也是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4000680" y="264312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 tennis  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2571840" y="371484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tenn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85480" y="1357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篮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儿有八个棒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是六个排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是一个足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些是五个网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十个乒乓球在书桌下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714240" y="421488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ose are five tennis 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3643200" y="13572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is a baske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86120" y="192888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e are eight base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3786120" y="250020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se are six volley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714240" y="53722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/These ten  ping-pong  balls are under the de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3786120" y="307188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t is a  soccer  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28880" y="1600200"/>
            <a:ext cx="78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篮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棒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排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踢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网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乒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3857760" y="3925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3857760" y="15001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3857760" y="2071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3857760" y="2714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volley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3857760" y="45007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ping-p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3857760" y="32828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 soc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02920" y="642600"/>
            <a:ext cx="814068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That sounds good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听起来不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系动词，意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听起来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形容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表语，构成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系表结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其三单形式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oun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oun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nter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听起来很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usic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oun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gr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乐听起来很美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4"/>
          <p:cNvGrpSpPr/>
          <p:nvPr/>
        </p:nvGrpSpPr>
        <p:grpSpPr>
          <a:xfrm>
            <a:off x="2571840" y="642960"/>
            <a:ext cx="3571920" cy="1081080"/>
            <a:chOff x="2571840" y="642960"/>
            <a:chExt cx="3571920" cy="1081080"/>
          </a:xfrm>
        </p:grpSpPr>
        <p:pic>
          <p:nvPicPr>
            <p:cNvPr id="215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2571840" y="642960"/>
              <a:ext cx="342936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17"/>
            <p:cNvSpPr/>
            <p:nvPr/>
          </p:nvSpPr>
          <p:spPr>
            <a:xfrm>
              <a:off x="2864160" y="880920"/>
              <a:ext cx="327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Pairwor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1"/>
          <p:cNvSpPr/>
          <p:nvPr/>
        </p:nvSpPr>
        <p:spPr>
          <a:xfrm>
            <a:off x="1428840" y="207180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ractice the conversations with your part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2"/>
          <p:cNvSpPr/>
          <p:nvPr/>
        </p:nvSpPr>
        <p:spPr>
          <a:xfrm>
            <a:off x="785880" y="285840"/>
            <a:ext cx="9000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1785960" y="214200"/>
            <a:ext cx="6643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member the things in Bob’s room. Then close your books and ask and answer questions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85840" y="2071800"/>
            <a:ext cx="4643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hav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 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es, he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do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He 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occer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8" descr="截屏013"/>
          <p:cNvPicPr/>
          <p:nvPr/>
        </p:nvPicPr>
        <p:blipFill>
          <a:blip r:embed="rId2"/>
          <a:stretch/>
        </p:blipFill>
        <p:spPr>
          <a:xfrm>
            <a:off x="4714920" y="1785960"/>
            <a:ext cx="4002120" cy="33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" descr="boy4"/>
          <p:cNvPicPr/>
          <p:nvPr/>
        </p:nvPicPr>
        <p:blipFill>
          <a:blip r:embed="rId2"/>
          <a:stretch/>
        </p:blipFill>
        <p:spPr>
          <a:xfrm>
            <a:off x="0" y="4214880"/>
            <a:ext cx="190512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8"/>
          <p:cNvGrpSpPr/>
          <p:nvPr/>
        </p:nvGrpSpPr>
        <p:grpSpPr>
          <a:xfrm>
            <a:off x="285840" y="285840"/>
            <a:ext cx="8076600" cy="3733560"/>
            <a:chOff x="285840" y="285840"/>
            <a:chExt cx="8076600" cy="3733560"/>
          </a:xfrm>
        </p:grpSpPr>
        <p:sp>
          <p:nvSpPr>
            <p:cNvPr id="224" name="AutoShape 4"/>
            <p:cNvSpPr/>
            <p:nvPr/>
          </p:nvSpPr>
          <p:spPr>
            <a:xfrm>
              <a:off x="285840" y="285840"/>
              <a:ext cx="8076600" cy="37335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00">
                <a:alpha val="2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5"/>
            <p:cNvSpPr/>
            <p:nvPr/>
          </p:nvSpPr>
          <p:spPr>
            <a:xfrm>
              <a:off x="1166040" y="928800"/>
              <a:ext cx="6782400" cy="27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We should </a:t>
              </a: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</a:rPr>
                <a:t>take an active part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Times New Roman"/>
                </a:rPr>
                <a:t>in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doing sports to keep us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healthy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我们应该积极参加体育运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来保持我们身体健康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5"/>
          <p:cNvSpPr/>
          <p:nvPr/>
        </p:nvSpPr>
        <p:spPr>
          <a:xfrm>
            <a:off x="1571760" y="4643280"/>
            <a:ext cx="6715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运动”：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do sports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play 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88720" y="1052280"/>
            <a:ext cx="8459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根据句意及汉语提示完成单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Do you have a _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网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Nick 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a new ping-pong b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Let’s 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to the teachers’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Can Ms Smith teach 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That 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起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Let’s play __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篮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with Mike and J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Don’t be 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迟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again, Sun W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24"/>
          <p:cNvGrpSpPr/>
          <p:nvPr/>
        </p:nvGrpSpPr>
        <p:grpSpPr>
          <a:xfrm>
            <a:off x="212760" y="-28440"/>
            <a:ext cx="2846520" cy="1081080"/>
            <a:chOff x="212760" y="-28440"/>
            <a:chExt cx="2846520" cy="1081080"/>
          </a:xfrm>
        </p:grpSpPr>
        <p:pic>
          <p:nvPicPr>
            <p:cNvPr id="229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212760" y="-28440"/>
              <a:ext cx="284652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7"/>
            <p:cNvSpPr/>
            <p:nvPr/>
          </p:nvSpPr>
          <p:spPr>
            <a:xfrm>
              <a:off x="212760" y="189000"/>
              <a:ext cx="272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Exercis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7"/>
          <p:cNvSpPr/>
          <p:nvPr/>
        </p:nvSpPr>
        <p:spPr>
          <a:xfrm>
            <a:off x="3348000" y="1571760"/>
            <a:ext cx="179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692360" y="2143080"/>
            <a:ext cx="146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620720" y="2643120"/>
            <a:ext cx="153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45080" y="3286080"/>
            <a:ext cx="564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835280" y="3929040"/>
            <a:ext cx="146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2646360" y="4500720"/>
            <a:ext cx="1996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232000" y="5715000"/>
            <a:ext cx="133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136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Ms. Sun is a 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伟大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My sister always 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玩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lovely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There are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two new __________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808360" y="214200"/>
            <a:ext cx="1942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3635280" y="785880"/>
            <a:ext cx="1943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294160" y="1928880"/>
            <a:ext cx="2086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olleyb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324000" y="3429000"/>
            <a:ext cx="842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单项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— _______ you have a volleyba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, I _____. But my sister ____ a new 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Do; don’t; have           B. Do; don’t; ha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Does; doesn’t; have    D. Does; doesn’t;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547640" y="4005360"/>
            <a:ext cx="100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68360" y="414360"/>
            <a:ext cx="82072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Hurry up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快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, Mary! We’re _______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late      B. gre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C. go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D. t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— Let’s _______.         — 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play basketb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to play the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lay basketb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D. play the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— _______ Anna _______ a ping-pong b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es, sh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Do; have; 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. Does; have;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Do; have; has          D. Does; have;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691320" y="404640"/>
            <a:ext cx="90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658960" y="1601640"/>
            <a:ext cx="90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92360" y="3905280"/>
            <a:ext cx="90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71680" y="1285920"/>
            <a:ext cx="82436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let us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缩写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                        _______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do not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缩写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                     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. have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三人称单数形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4. we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宾格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                            _______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. we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形容词性物主代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6. do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三人称单数形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7. don’t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三人称单数形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_________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512040" y="1957320"/>
            <a:ext cx="129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510240" y="2575080"/>
            <a:ext cx="93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072120" y="4500720"/>
            <a:ext cx="144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580080" y="1279440"/>
            <a:ext cx="108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22160" y="549360"/>
            <a:ext cx="665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按要求写出正确的单词或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510240" y="3295800"/>
            <a:ext cx="647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215040" y="3857760"/>
            <a:ext cx="93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424560" y="5181480"/>
            <a:ext cx="199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95280" y="1415880"/>
            <a:ext cx="82072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— Listen! The song ______ beautifu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. It’s grea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hears                 B. listens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listens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D. soun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967280" y="1285920"/>
            <a:ext cx="1116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句型转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I have a baseball bat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一般疑问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_______ _______ a baseball b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My brother has a soccer ball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一般疑问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 your brother ______ a soccer 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Do your friends have a volleyball?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肯定回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, _______ 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Does Mr. Smith have a brother?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否定回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, _____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My hat i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 the ch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划线部分提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______ _____ h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92000" y="1360440"/>
            <a:ext cx="3996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           you      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76360" y="2492280"/>
            <a:ext cx="51609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es                          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44480" y="3639960"/>
            <a:ext cx="40435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es            they     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719280" y="4724280"/>
            <a:ext cx="38368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         he     doesn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76440" y="5872320"/>
            <a:ext cx="41828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re       is       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287280" y="260280"/>
            <a:ext cx="84279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用所给单词的适当形式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y______ (have) a nice j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t’s ______ (play)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et _____ ( I ) ge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often gets sick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病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_____________ ( not play) s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That _______ (sound) 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I have some ping-pong  _____ (ba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I have two ________ (wat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She _______ (watch) TV on week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033640" y="700200"/>
            <a:ext cx="1395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033640" y="1214280"/>
            <a:ext cx="1395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785960" y="1843200"/>
            <a:ext cx="1395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1571760" y="2928960"/>
            <a:ext cx="25714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esn’t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643040" y="3500280"/>
            <a:ext cx="25718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929120" y="4071960"/>
            <a:ext cx="25718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571840" y="4629240"/>
            <a:ext cx="25718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357200" y="5214960"/>
            <a:ext cx="25718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857240" y="2928960"/>
            <a:ext cx="5143680" cy="32637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928800" y="78588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great sports collecti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收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I have 8 tennis rackets, 9 basketballs and 7 baseballs. I have 3 soccer balls and 5 volleyballs. I play sports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642960" y="21420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ank  Miller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 改写这篇短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标题 1"/>
          <p:cNvSpPr/>
          <p:nvPr/>
        </p:nvSpPr>
        <p:spPr>
          <a:xfrm>
            <a:off x="1285920" y="285840"/>
            <a:ext cx="72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do 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三单形式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does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71680" y="1143000"/>
            <a:ext cx="82864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1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实义动词，意为“做；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my home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我的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st do it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就去做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助动词，无实际意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构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一般疑问句及其简略回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特殊疑问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否定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：助动词在时，相关的实义动词用原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doesn’t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a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 base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es sh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av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base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57160" y="714240"/>
            <a:ext cx="8715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有乒乓球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他有篮球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她有哥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071720" y="141588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ping-pong 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071720" y="278604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he have a baske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071720" y="407196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she have a br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2"/>
          <p:cNvSpPr/>
          <p:nvPr/>
        </p:nvSpPr>
        <p:spPr>
          <a:xfrm>
            <a:off x="785880" y="285840"/>
            <a:ext cx="80722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他们没有足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有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她有两个网球，但她没有网球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857160" y="171468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’t have a soccer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857160" y="307188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928800" y="428616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s two tennis balls, but she doesn’t have a tennis r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071720" y="1285920"/>
            <a:ext cx="63133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o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you have a basket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71720" y="2071800"/>
            <a:ext cx="66751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oes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she/he have a basket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643120" y="64296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Pair 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162_G_1255038287339"/>
          <p:cNvPicPr/>
          <p:nvPr/>
        </p:nvPicPr>
        <p:blipFill>
          <a:blip r:embed="rId2"/>
          <a:stretch/>
        </p:blipFill>
        <p:spPr>
          <a:xfrm>
            <a:off x="7143840" y="128592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20090115093006644"/>
          <p:cNvPicPr/>
          <p:nvPr/>
        </p:nvPicPr>
        <p:blipFill>
          <a:blip r:embed="rId3"/>
          <a:stretch/>
        </p:blipFill>
        <p:spPr>
          <a:xfrm>
            <a:off x="714240" y="4500720"/>
            <a:ext cx="1157400" cy="110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tennis ball"/>
          <p:cNvPicPr/>
          <p:nvPr/>
        </p:nvPicPr>
        <p:blipFill>
          <a:blip r:embed="rId4"/>
          <a:stretch/>
        </p:blipFill>
        <p:spPr>
          <a:xfrm>
            <a:off x="2857680" y="3071880"/>
            <a:ext cx="1460160" cy="107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截屏015"/>
          <p:cNvPicPr/>
          <p:nvPr/>
        </p:nvPicPr>
        <p:blipFill>
          <a:blip r:embed="rId5"/>
          <a:stretch/>
        </p:blipFill>
        <p:spPr>
          <a:xfrm rot="3511200">
            <a:off x="2872800" y="4897440"/>
            <a:ext cx="1814760" cy="382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2011_8_12_11_40_12_3933"/>
          <p:cNvPicPr/>
          <p:nvPr/>
        </p:nvPicPr>
        <p:blipFill>
          <a:blip r:embed="rId6"/>
          <a:stretch/>
        </p:blipFill>
        <p:spPr>
          <a:xfrm>
            <a:off x="6072120" y="3071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pingpang"/>
          <p:cNvPicPr/>
          <p:nvPr/>
        </p:nvPicPr>
        <p:blipFill>
          <a:blip r:embed="rId7"/>
          <a:stretch/>
        </p:blipFill>
        <p:spPr>
          <a:xfrm>
            <a:off x="857160" y="3000240"/>
            <a:ext cx="857520" cy="1028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6"/>
          <p:cNvSpPr/>
          <p:nvPr/>
        </p:nvSpPr>
        <p:spPr>
          <a:xfrm>
            <a:off x="4643280" y="4929120"/>
            <a:ext cx="500400" cy="4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7643880" y="5000760"/>
            <a:ext cx="498240" cy="5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714920" y="3286080"/>
            <a:ext cx="498600" cy="5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2214720" y="5000760"/>
            <a:ext cx="500040" cy="428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00160" y="3214800"/>
            <a:ext cx="498600" cy="51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"/>
          <p:cNvSpPr/>
          <p:nvPr/>
        </p:nvSpPr>
        <p:spPr>
          <a:xfrm>
            <a:off x="7572240" y="3286080"/>
            <a:ext cx="500040" cy="4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运动跃动-运动-运动,运动跃动"/>
          <p:cNvPicPr/>
          <p:nvPr/>
        </p:nvPicPr>
        <p:blipFill>
          <a:blip r:embed="rId8"/>
          <a:srcRect l="10690" t="16678" r="7692" b="15368"/>
          <a:stretch/>
        </p:blipFill>
        <p:spPr>
          <a:xfrm>
            <a:off x="6286680" y="4500720"/>
            <a:ext cx="969840" cy="11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1680" y="714240"/>
            <a:ext cx="7713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Hey, Helen, let’s go! We’re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Do you have the base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Yes, I do. It’s in my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And where’s our baseball b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Bill ha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Oh, yeah. And do you have your jac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h, no, I don’t. It’s on the chair. Let 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indy: And your hat,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en: OK, I have my jacket and hat. Let’s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28760" y="206280"/>
            <a:ext cx="65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ole-play the conversation in 2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26-4"/>
          <p:cNvPicPr/>
          <p:nvPr/>
        </p:nvPicPr>
        <p:blipFill>
          <a:blip r:embed="rId2"/>
          <a:stretch/>
        </p:blipFill>
        <p:spPr>
          <a:xfrm>
            <a:off x="6357960" y="1285920"/>
            <a:ext cx="1928880" cy="127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2920" y="1494000"/>
            <a:ext cx="8677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. ____ you _____ a base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, I ___. / ____, I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你有一个乒乓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 you _____ a  ping-pong 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没有。我有一个乒乓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, I ______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 _____ a ping-pong 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她有一个网球吗？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_____ she _____ a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24"/>
          <p:cNvGrpSpPr/>
          <p:nvPr/>
        </p:nvGrpSpPr>
        <p:grpSpPr>
          <a:xfrm>
            <a:off x="1714680" y="0"/>
            <a:ext cx="4714560" cy="936720"/>
            <a:chOff x="1714680" y="0"/>
            <a:chExt cx="4714560" cy="936720"/>
          </a:xfrm>
        </p:grpSpPr>
        <p:pic>
          <p:nvPicPr>
            <p:cNvPr id="99" name="Picture 6" descr="BAN_052"/>
            <p:cNvPicPr/>
            <p:nvPr/>
          </p:nvPicPr>
          <p:blipFill>
            <a:blip r:embed="rId2"/>
            <a:stretch/>
          </p:blipFill>
          <p:spPr>
            <a:xfrm>
              <a:off x="1714680" y="0"/>
              <a:ext cx="47145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714680" y="172440"/>
              <a:ext cx="451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Comic Sans MS"/>
                  <a:ea typeface="隶书"/>
                </a:rPr>
                <a:t>Grammar Focu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7"/>
          <p:cNvSpPr/>
          <p:nvPr/>
        </p:nvSpPr>
        <p:spPr>
          <a:xfrm>
            <a:off x="714240" y="1498680"/>
            <a:ext cx="273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         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922560" y="4986360"/>
            <a:ext cx="338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es         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11280" y="3259080"/>
            <a:ext cx="62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           have                          b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46200" y="2043000"/>
            <a:ext cx="3782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es      do</a:t>
            </a:r>
            <a:r>
              <a:rPr b="1" lang="en-US" sz="3200" spc="-1" strike="noStrike">
                <a:solidFill>
                  <a:srgbClr val="6201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419640" y="4438800"/>
            <a:ext cx="417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ve                       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250920" y="785880"/>
            <a:ext cx="3240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重点句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978280" y="2070000"/>
            <a:ext cx="2808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       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11280" y="4410000"/>
            <a:ext cx="252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      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18T00:05:03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